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5500-1A98-490E-8099-242DEDDC7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00B7A-7054-4CC5-849F-2ED8F158D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 Afternoon – I would like to thank Robin and the organizers of this Stem Cell Summit for the opportunity to introduce our company, Glycosan BioSystems, and tell you  a little about about our technology and product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EABBD-7B0A-423B-A063-941C2AD5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’ve chosen to work closely with leading researcher in the development of therapeutic application for our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ly we have studies on going at ------  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AF623-9C6E-4ADE-B680-10B5A11C1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every challenge……… there emerges opportunities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F90-410A-4750-8D71-284407B7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CE2-FD7B-45AC-9CF5-A687C509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141-4519-4284-81F1-069B8756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647-977A-4E0D-AD76-22718C1F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B24-4AAF-47E2-93CB-2717F45F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C78-6963-4F8C-8FDD-81C5D531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5A4-D50A-4A22-883C-D5660244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0B2-3EAE-49BE-8827-23D5895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B08-91C4-475C-9864-39F816F3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D05-94EB-4DCC-A583-D13D1F2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BF-B735-4942-A884-D99C1B4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1DF-FC2A-4258-ADF1-A9EA0E6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8cf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3200"/>
              </a:spcBef>
              <a:buClr>
                <a:srgbClr val="ff0000"/>
              </a:buClr>
              <a:buSzPct val="17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557280" indent="-214200">
              <a:spcBef>
                <a:spcPts val="3200"/>
              </a:spcBef>
              <a:buClr>
                <a:srgbClr val="ff0000"/>
              </a:buClr>
              <a:buSzPct val="13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857160" indent="-171360">
              <a:spcBef>
                <a:spcPts val="3200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199880" indent="-171360">
              <a:spcBef>
                <a:spcPts val="3200"/>
              </a:spcBef>
              <a:buClr>
                <a:srgbClr val="ff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1542960" indent="-171360">
              <a:spcBef>
                <a:spcPts val="3200"/>
              </a:spcBef>
              <a:buClr>
                <a:srgbClr val="ff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1542960" indent="-171360">
              <a:spcBef>
                <a:spcPts val="3200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1542960" indent="-171360">
              <a:spcBef>
                <a:spcPts val="3200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B23-ED35-40B6-BBFB-027202B4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781680" y="6172200"/>
            <a:ext cx="2362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Glycosanlogo(transparent) "/>
          <p:cNvPicPr/>
          <p:nvPr/>
        </p:nvPicPr>
        <p:blipFill>
          <a:blip r:embed="rId2"/>
          <a:stretch/>
        </p:blipFill>
        <p:spPr>
          <a:xfrm>
            <a:off x="6934320" y="6257880"/>
            <a:ext cx="205740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8cf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anslational Medici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1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an Cumm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ny Farr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am T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8cf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Lesson in Hubris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33520" y="1295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e and Fall of Ce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quote-web.aol.com.gif"/>
          <p:cNvPicPr/>
          <p:nvPr/>
        </p:nvPicPr>
        <p:blipFill>
          <a:blip r:embed="rId1"/>
          <a:stretch/>
        </p:blipFill>
        <p:spPr>
          <a:xfrm>
            <a:off x="609480" y="198108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8cf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Questions 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Clr>
                <a:srgbClr val="ff00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or licens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Clr>
                <a:srgbClr val="ff00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requirement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Clr>
                <a:srgbClr val="ff00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o or partnership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Clr>
                <a:srgbClr val="ff00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, distribution, &amp; sale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Clr>
                <a:srgbClr val="ff00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t plan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5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8580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.a clear and concise vision that addresses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1:39:28Z</dcterms:created>
  <dc:creator>Julia Anna Scott</dc:creator>
  <dc:description/>
  <dc:language>en-US</dc:language>
  <cp:lastModifiedBy>William Tew</cp:lastModifiedBy>
  <cp:lastPrinted>2011-02-25T16:27:50Z</cp:lastPrinted>
  <dcterms:modified xsi:type="dcterms:W3CDTF">2011-03-14T15:00:41Z</dcterms:modified>
  <cp:revision>522</cp:revision>
  <dc:subject/>
  <dc:title>Slide 1</dc:title>
</cp:coreProperties>
</file>